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6E1-0452-4EF0-B012-76F1C82F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E15-74AF-4EF1-9C11-8D5D1D39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9907-152A-4A11-9FF3-D5CC4337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FFF-2059-42AC-B6FE-D5CECAE6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70166-FEBA-45A8-A331-A3C2C13A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91F7A-134B-447C-9F0E-1F5EE9ED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338D7-D5AC-40EA-AAF2-0C0267B1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6DA24-D8AB-486B-B62B-D7555D5E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E7EB9-E01D-4755-B8BF-2ABD0B3A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0E0A1-C041-43DE-9EBD-E605EA5B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96A6A-0337-4BD0-AA05-EC7A72EE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FEB-44F9-423E-A1AC-ED988B00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D871D-8121-489C-9936-6170695D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160C6-5D05-4360-A4D7-250289ED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58C82-C279-4C9F-A862-71E43501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0C3EB-2EFB-4EE7-A28E-18503F2B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79350-FA3C-47AA-B64C-34C0DFE4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EEFAD-BE04-4494-9CB6-5328E0BF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13DF-2AC7-4266-AFA7-57714889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E0108-D848-4175-8A27-6D7B26B4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D54C3-C702-470A-ACA3-A18B2837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FB284-7016-4AEB-A7FD-E9E623AE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E81-20CE-46AE-B5E8-F9ED50A7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4DEFA-A2D3-40E5-8535-6BB973C4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A86F3-6ABA-4F40-B973-4AEA9376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8ED2B-B369-44B3-8D5A-FFCD24EA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F55A7-69E4-46AD-8053-9831CD27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EE00D-FD0D-4F1E-B7C2-38BEAEFF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F0E30-E1D2-4511-A481-7A47EA4B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7A963-3810-46CA-A92B-24E7F985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5C99D8-A750-4FCE-99BF-744D94CD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CD6B4A-FA65-455A-A1F9-F2A7B3AF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21408F-6720-4142-B913-12FC5E97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960-C9E7-46E1-AECA-846E1E0A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BAD9D0-B58C-48F0-9904-4B455CB1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82D30F-4EE9-4EEE-8212-2F597817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52ADD3-9911-4B4D-9157-BED92826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9045DF-46E5-4ECA-BCF0-AC012D50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6F4446-403D-41AC-81A2-1E121902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FD7A86-392A-46DF-B3A4-CF623212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11CCE3-27B3-4724-9573-7CE1F2C4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9936EC-4C81-4DCA-AF60-F6E0C544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CFA0B6-390F-41E1-A965-4BB427A1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4B6681-6903-47AF-92CF-40CF8B9C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316-A7F2-4CCA-8335-09A85A3A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D303D-DB7D-4CAC-9017-5DA6D216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1B3374-DB49-4A17-9919-BBFE5D5C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0B1D0-FE13-445C-8299-3BB322DB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864069-C2DF-4F28-AA3F-40645100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78B2B5-27AF-434D-A37F-97B48E3C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87276-61C8-474F-88F8-F6D7ED52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A0E721-B7C5-4B14-B52F-A4F6460A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84FC5F-63FE-433C-8BD7-EF676826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51F5B-9495-474D-B882-D78F7FF6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EEE17-3F92-4437-880F-12C282F6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D9D-FF3B-4543-A289-C012778A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C446C-391F-4362-98FF-FD5D3960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15C8F0-230F-4246-A5FE-BEB8E025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9A61E1-417C-4203-84D2-064149BA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EAF09E-8D23-49AF-804B-12D607DB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ABFCDD-8EF6-470E-A098-F3927331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64EFB3-1EC4-42B8-9784-93FCFF30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E7618A-C85F-4F1C-8E0F-FABA394A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FC428-6E0A-48CB-8B73-85B61B71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808894-9398-42E5-A917-71BD2C8B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5DD679-214B-4668-8EAF-13FEFDF7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A9B-5D00-4B78-B310-276B113F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CE79F6-0E25-499F-B472-540A06A5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11E556-1CD5-4845-BBF3-76C68843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AC2272-2FBE-4D08-9C31-A5E93262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A544-55F2-4EE9-90C4-B1CB0A7F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269-52D8-4713-AAC2-FD622A8A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2F26-DC82-4C67-89F9-023A514DD24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632A-782D-489C-B3F2-C4DEE5B423E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6A35-8CE1-494E-9B8F-8141104C704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1F66-67DF-4677-AAA4-F2B99E94174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1988-4BE8-4486-8D10-89FA1623E71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2070-AB4D-4DA3-9F2F-D335E5EA2B0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val 3"/>
          <p:cNvSpPr/>
          <p:nvPr/>
        </p:nvSpPr>
        <p:spPr>
          <a:xfrm>
            <a:off x="228600" y="228600"/>
            <a:ext cx="8610480" cy="632448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EDUCATIONAL TECHNOLOG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Oval 6"/>
          <p:cNvSpPr/>
          <p:nvPr/>
        </p:nvSpPr>
        <p:spPr>
          <a:xfrm>
            <a:off x="1295280" y="1523880"/>
            <a:ext cx="6400800" cy="4038840"/>
          </a:xfrm>
          <a:prstGeom prst="ellipse">
            <a:avLst/>
          </a:prstGeom>
          <a:solidFill>
            <a:srgbClr val="9c85c0"/>
          </a:solidFill>
          <a:ln w="38160">
            <a:solidFill>
              <a:srgbClr val="716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2895480" y="18288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INSTRUCTIONAL TECHNOLOG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2895480" y="2743200"/>
            <a:ext cx="3124440" cy="18288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3048120" y="335268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TECHNOLOGY INTEG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3:01:31Z</dcterms:created>
  <dc:creator>Barsales</dc:creator>
  <dc:description/>
  <dc:language>en-US</dc:language>
  <cp:lastModifiedBy>Barsales</cp:lastModifiedBy>
  <dcterms:modified xsi:type="dcterms:W3CDTF">2012-07-10T13:04:10Z</dcterms:modified>
  <cp:revision>1</cp:revision>
  <dc:subject/>
  <dc:title>PowerPoint Presentation</dc:title>
</cp:coreProperties>
</file>